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5F7-7688-49CB-A548-9D6900D6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259-01BA-440D-B534-6489A55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C32-06F8-42A7-BDD0-EBBBC11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2D0-8137-4E7B-9C42-4227BE2A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9D69-781B-42D0-BFBD-CA43B561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11E4-8D77-446E-A128-74579665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1C3-90EA-4A8B-9F21-657152E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B14F-1A11-47A2-947C-579B9D9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24A-E9AC-4A05-A496-24E0D40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A94-EC2E-48EF-BDD3-69AE42D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C080-0E19-4A65-B10A-F05787A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CFB-A266-4986-B2E1-2D600A3E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C800-9D79-46F8-9500-AA789C4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887F-7DFF-469C-9403-83EB953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5BE-957D-4386-817F-FB949FE4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2C97-8769-4CD7-B8DE-E66D1B83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5C66-D443-44B9-87F1-D30650D5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CA8-F727-4F39-BC69-12E4C69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2F7-C129-4481-B233-3CEFA44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0CA-CC29-449A-86FE-D70D68E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852-FFB6-468B-8A92-6E6C65B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1BD-C120-4F4B-B3FF-5CCB3CB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5B9-323F-42FD-8123-8B197BE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EB6-B6F7-4C18-B030-760341C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B758-AAFF-4EE3-845A-8F29DEC3D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0C9-EE71-4CFB-8135-23D021F9D0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Clase 6 nh (602)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16 de enero del 2013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Propósito # 32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A que hora duer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Historieta 6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p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621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Ejercicio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dcterms:modified xsi:type="dcterms:W3CDTF">2013-01-16T19:22:04Z</dcterms:modified>
  <cp:revision>7</cp:revision>
  <dc:subject/>
  <dc:title>Me llamo __________    Clase 7 IM La fecha es el 2 de diciembre del 2010</dc:title>
</cp:coreProperties>
</file>